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A27-8F5B-4F7D-97F7-9911F6D2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BC1-E28D-42B8-9760-CD687FD9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2EB-3E36-4345-B9F7-98EB40FE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0C7-0691-42FF-94D2-CAF9DEE1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E1B9-E152-47CC-97A4-4DA9BEF7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1774-341E-4A09-B200-C4254EDD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3758-7F86-44F0-814C-5BD13ED8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96C8-3F0E-4C94-B060-6B1CD19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4E9F-66E7-47C9-9B7B-73B72D6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14DA-3B9F-4EAC-8944-46BD3C75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C440-21DC-4110-8583-2295D321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731-E623-439A-87F8-C1D69C4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B19A-2685-4662-9E17-8C8D1D39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07BE-1954-4589-9AAC-C251D4B6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0D0-7DED-421F-8906-2ABCCBBE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F122-F12B-4EC0-9F85-FC41AB85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B898-6ABF-4892-9976-9BE97A12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48F-BC1D-48EC-A4C6-FA3CABEB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F82-AF16-48FE-A0D7-98242994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6A8-033C-4150-AE38-1229D5F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95B-4FAA-47D5-910B-83E9A0C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707-645D-4462-84D5-6369549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817-D5A0-41BD-900A-2F89864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569-1BB7-4394-A658-DD06FB7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1069-3BB1-4452-851B-F2F1B064FE6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544-51C9-4583-BFB5-AAA76837730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2" marL="89604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3" marL="134388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4" marL="1792080" algn="ctr">
              <a:spcBef>
                <a:spcPts val="799"/>
              </a:spcBef>
              <a:buClr>
                <a:srgbClr val="cc00cc"/>
              </a:buClr>
              <a:buSzPct val="65000"/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5" marL="1792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6" marL="1792080">
              <a:spcBef>
                <a:spcPts val="799"/>
              </a:spcBef>
              <a:buClr>
                <a:srgbClr val="dddddd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 Remnant Shall Return”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- - -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Years of Silenc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399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Quarter 8, Lesson 22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ages 152-157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Pompey Goes To Jerusalem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was taken captive to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opened the gates of Jerusalem to Pompey and the Roman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entered the Most Holy Place of the temple and his life went downhill from ther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ulius Caesar was leading the Roman effort to the w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 bitter rivalry develop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Julius Caesar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60 B.C., Pompey, Julius Caesar, and Crassus formed the first Triumvirate of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rassus di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and Caesar fought each other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ompey fled to Egypt but the Egyptians killed hi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Caesar with the help of Antipater II won his battle in Egypt, then went h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aesar Controlled Judea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rewarded – made Procurator of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- confirmed as high pri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placed his sons in positions of power in Jerusale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Herod in Galilee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Phasael in Judea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Caesar Assassinated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44 B.C., Caesar was assassinat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Brutus and Cassius were in opposition to Mark Anthony and Octavia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and Octavian defeated the conspirators and divided the Roman worl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controlled the eastern part (including Judea)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 controlled the western par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rouble In Judea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In 43 B.C., Antipater was poison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made Herod and Phasael joint rulers of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Mark Anthony was an oppressive ruler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 fight developed over the high priest positio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gonus, son of Aristobulus, joined the Parthians and invaded Judea in 40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rouble In Judea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yrcanus II was removed from office and his ears were cut off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hasael was captured but committed suicide in priso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rod escaped and fled to R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Roman senate appointed Herod as king of Judea hoping he would defeat the Parthian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Eventually, he did win all of Palestin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Herod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took the title of Herod the Grea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favored the Jews by getting Rome to let them worship God according to the law of Mose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was Hellenistic (Greek) in his outlook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 Edomite (Idumaean) now ruled Jude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Peace and stability prevailed in the lan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Gal. 4:4 – “When the fullness of time was come, God sent forth His son”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Meanwhile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Octavian ruled the Romans about 2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and Cleopatra were tigh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Again, internal fighting began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 won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Mark Anthony and Cleopatra both died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Octavian’s name changed to Augustu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Luke 2:1 – 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“In those days,... Caesar Augustus...”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he Status of the Jew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ohn Hyrcanus was high priest in 134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Subdued the Idumaean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Destroyed the temple on Mt. Gerizim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When Hyrcanus died, internal fighting developed among the Maccabean effor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is son, Aristobulus, succeeded hi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died after one year and his brother Alexander Jannaeus rul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lexander Jannaeu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Ruled from 103-76 B.C. as civil ruler and as high pries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Jannaeus almost ousted by the people,  finally won their support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leaders of the revolt (800 Pharisees) were crucified while he and his concubines watched and feast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The families of the doomed men were brought in and slaughtered before their eye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Salom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When Alexander Jannaeus died, he left his kingdom to his widow, Salome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he ruled 76-6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He had advised her to make peace with the Pharisee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he did, even brought them into her council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alome died in 67 B.C.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ristobulus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lexander Jannaeus and Salome had two sons: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Hyrcanus II– made high priest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Aristobulus – made military commander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ristobulus ousted his brother Hyrcanus II as high priest and took complete control of the Jew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The Roman Empire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rom 129 to 75 B.C., Rome took control of most of Asia Minor and Syria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Roman senate authorized Pompey to take control of the eastern shores of the Mediterranean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ir goal: To control all shores of the sea for fifty miles inlan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Refer to the map on page 135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Antipater II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 Idumaean governor, Antipater, had a son named Antipater II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II used Hyrcanus II to help him gain power from Aristobulu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Antipater II arranged for Aretas, a Nabatean king south of Judea, to help Hyrcanus II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ahoma"/>
              </a:rPr>
              <a:t>Now, back to the Romans...</a:t>
            </a:r>
            <a:endParaRPr b="0" lang="en-US" sz="4400" spc="-1" strike="noStrike">
              <a:solidFill>
                <a:srgbClr val="00cc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The old Seleucid kingdom had collaps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Pompey sent Scaurus to Damascus</a:t>
            </a:r>
            <a:endParaRPr b="0" lang="en-US" sz="28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Scaurus then went to Judea as the Jewish in-fighting continued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Both sides wanted Scaurus to side with them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ahoma"/>
              </a:rPr>
              <a:t>Finally, Aretas’ army and Hyrcanus defeated Aristobulus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9:58:16Z</dcterms:created>
  <dc:creator>Frank D Vines</dc:creator>
  <dc:description/>
  <dc:language>en-US</dc:language>
  <cp:lastModifiedBy>Frank D Vines</cp:lastModifiedBy>
  <dcterms:modified xsi:type="dcterms:W3CDTF">2006-06-29T19:25:59Z</dcterms:modified>
  <cp:revision>13</cp:revision>
  <dc:subject/>
  <dc:title>“A Remnant Shall Return” - - - Years of Si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